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70AC-BC3B-45E4-B8F1-69F9F86C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3E5A-A02A-468E-A1AB-8E701C32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E4D0-DF34-4101-B278-ABC57F740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6E0F-1E92-4AFD-9333-D1F7794E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4926-8E04-4360-8EAB-BEA62870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44F8-E9DD-4C08-A7F1-F3C64A7A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E35D-6F98-43F9-8E96-0CD8F605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806B-E2D0-4BD2-AD1A-FC49701D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A0AF-B7B1-441F-AD66-B0E8D986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E34E-15B8-4E2D-933D-865D9AEF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BE5B-F75B-406D-9CA9-8E0B466B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5293-45C8-4941-BFC0-3C24762F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3CB3-9018-4153-BDE7-90900413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972E-9DB0-4A03-B7D0-95FC7CDB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541D-26AC-4935-91BF-9DDDE90B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B955-5781-486D-9AE2-F6D76B61F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DA14-9877-40AA-B51F-A2E64218F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9E916-8790-4634-AB48-209AEB7A1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FBE3C-4E85-4B20-84EF-9D126927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2D343-8013-43F3-B3ED-5932D8E1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650BC-4006-4EB2-A6E6-C4144A66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35ECE-F3FE-4CE6-95E2-F0159104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7B70-6E1C-49E1-A14E-DD11689C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AB3BD-9CA9-4782-ABEF-3CFAEA3A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50EDC-509E-4380-B0AB-A2632D72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18C60-8F59-4320-900E-25AF355C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D3A43-D0FC-4B50-8FD5-B3084A25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03F27-2595-47AD-B882-AAD0AD24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A3AC2-B5C4-45A5-91D0-6352E886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28969-13DC-40F4-86D2-C7B1E380D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5D1A8-52C6-42F1-A07E-17B5973E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F4183-7D51-455F-A34C-DB92399D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1DFFD-D55A-4917-9D12-C88ECD3C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ED5E-D9C6-4D45-8A52-EEC84467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A1E60-B1A5-409D-9FE9-A34C3FA9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29A9E-E946-4F46-BC9B-C883DDE3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22A7A-DAD8-4721-967B-38603F53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25DDA-0529-4224-A3CE-306A5986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25D1D-F50B-4BC0-9496-7ABB7032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E94C5-CDD3-4214-ADF9-BDB91C97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72C04-8FEE-4F43-8D3A-9A631398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30C58-A4A1-452B-B827-F01E362E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822E7-BE83-4606-AD06-BA57706F5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D2A37-380A-4284-BF0D-3D0D31D3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8652-7870-4287-8415-3007D1A9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3E0F0-E836-4BF5-9AC8-DB4D4ADD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1FE54-E77C-41BC-8541-9C968194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D5E19-D3A6-4CD8-AD5C-06282A79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4A1A3-1345-4959-9B2F-BD105EDE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2AD46-6E17-432A-8EAD-A50877F5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18E7B-87F7-4555-8018-9381499F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3571B-A786-4857-BBCB-26F64652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F16B9-B881-479A-B74D-62BC5282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A302A-4B53-4F44-8CE1-3974C410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AABD3-D293-481C-8091-CB39D5FB9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6EBF-9CE2-4FDD-886D-FD3F93E9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56A34-C620-4E86-8F74-3D1E804F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D7098-4B42-478A-BE07-5A3EB43D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89F00-BE64-408A-A815-0F453B01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B6294-2437-4ABB-9D20-AB76F63D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F6944-4459-48EF-A4D4-E396F569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F1DE5-5471-4C5A-B2F5-3E4926A9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CF0FC-888F-46EE-8380-A5A1E961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46376-A4E4-4BCB-B3F8-504DF7BA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6B82E-518C-421F-AC9D-8916BD60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DFF5E-DBC4-41F1-B8C5-C178169D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F5C0-0170-434C-A7B5-9258EEEF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711D0-D1A3-47A1-8C59-7E5954B0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BBAD0-D44A-435D-8A4A-0C5422E9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93A59-9CC7-4C95-9359-6355E0C9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01D1-CFEB-4122-BFBA-B49DAE94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201C-E520-4305-96F7-99A63A7A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0A5B3BA-33C1-4F50-BC69-3265726FC10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D07DB74-B9A2-401F-B28F-E4210370EE4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248F00A-8B89-47A7-905C-B639B6DB0AE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772EBFA-EDE3-4799-BFE0-FE9E9693683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B08F893-45D4-42E6-B1C0-8174EA0045B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3524DBF-5048-4478-AFCF-D095A127FA2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9.12.2017 № № 106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8 год и плановый период 2019-2020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38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4996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0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8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6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3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4,7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95 млн.руб. (местный бюджет – 118,3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9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13,1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9,5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19800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9608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5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9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502,8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81,29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3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7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4,7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23:55:44Z</dcterms:modified>
  <cp:revision>140</cp:revision>
  <dc:subject/>
  <dc:title>Структура собственных доходов на 2016 год бюджета Дальнереченского городского округа</dc:title>
</cp:coreProperties>
</file>